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A06-30EF-45B4-9C4E-73A54FF9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1E2-60F6-46BA-86FB-62406CA2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7B5-B650-4452-993F-A6797E51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28F-B6B5-471D-818A-A82D11B9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DC5-647E-491E-ACE6-CA3A146A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8C0-0247-4496-A052-DA69E21C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276-E0AB-4277-AFE9-C21640A3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148-0D63-4395-83E7-15EC27DD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EDE-FCE0-4C25-8B63-C827E7F6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ECF-B2AA-42DA-885C-5C14B96C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1D5-C6D3-426E-B9FA-3E552680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1CF-57BB-4D8A-9C98-098EA5CB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F99A-06CD-43C3-9A2D-BC411111ED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691344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黑体"/>
              </a:rPr>
              <a:t>第九章    机关事业单位工勤人员的</a:t>
            </a:r>
            <a:br>
              <a:rPr sz="3200"/>
            </a:b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黑体"/>
              </a:rPr>
              <a:t>      岗位技能素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1640" y="2565000"/>
            <a:ext cx="6481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提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了解工勤岗位的特殊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敬业、勤业、精业、乐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1045000">
            <a:off x="6372360" y="4869000"/>
            <a:ext cx="1942920" cy="143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00000" y="981000"/>
            <a:ext cx="73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黑体"/>
                <a:ea typeface="黑体"/>
              </a:rPr>
              <a:t>第一节  工勤岗位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一、工勤岗位的概念及设置：三大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管理    技术    工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特点：（一）综合素质要求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社会影响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岗位设置“多而独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凸显社会服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二、工勤岗位职责案例</a:t>
            </a:r>
            <a:r>
              <a:rPr b="0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1045000">
            <a:off x="6372360" y="4869000"/>
            <a:ext cx="1942920" cy="143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129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黑体"/>
                <a:ea typeface="黑体"/>
              </a:rPr>
              <a:t>第二节  工勤岗位的职业技能素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爱岗敬业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庖丁解牛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见贤思齐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分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凸显业绩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分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阳光心态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分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42915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理论复习题（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P094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515772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工勤岗位等级（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P10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42915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黑体"/>
                <a:ea typeface="黑体"/>
              </a:rPr>
              <a:t>理论复习题（</a:t>
            </a:r>
            <a:r>
              <a:rPr b="1" lang="zh-CN" sz="3200" spc="-1" strike="noStrike">
                <a:solidFill>
                  <a:srgbClr val="cccc00"/>
                </a:solidFill>
                <a:latin typeface="黑体"/>
                <a:ea typeface="黑体"/>
              </a:rPr>
              <a:t>P094</a:t>
            </a:r>
            <a:r>
              <a:rPr b="1" lang="zh-CN" sz="3200" spc="-1" strike="noStrike">
                <a:solidFill>
                  <a:srgbClr val="cccc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515772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黑体"/>
                <a:ea typeface="黑体"/>
              </a:rPr>
              <a:t>工勤岗位等级（</a:t>
            </a:r>
            <a:r>
              <a:rPr b="1" lang="zh-CN" sz="3200" spc="-1" strike="noStrike">
                <a:solidFill>
                  <a:srgbClr val="cccc00"/>
                </a:solidFill>
                <a:latin typeface="黑体"/>
                <a:ea typeface="黑体"/>
              </a:rPr>
              <a:t>P102</a:t>
            </a:r>
            <a:r>
              <a:rPr b="1" lang="zh-CN" sz="3200" spc="-1" strike="noStrike">
                <a:solidFill>
                  <a:srgbClr val="cccc00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7640" y="4076640"/>
            <a:ext cx="2318040" cy="2401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32000" y="1980720"/>
            <a:ext cx="66960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99ff"/>
                </a:solidFill>
                <a:latin typeface="黑体"/>
                <a:ea typeface="黑体"/>
              </a:rPr>
              <a:t>一、工勤岗位有哪些特殊性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要点：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综合素质要求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社会影响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岗位设置“多而独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凸显社会服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思 考 题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补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35280" y="5734080"/>
            <a:ext cx="6840360" cy="431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4360" y="4653000"/>
            <a:ext cx="1812600" cy="180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3:47:36Z</dcterms:created>
  <dc:creator>llm</dc:creator>
  <dc:description/>
  <dc:language>en-US</dc:language>
  <cp:lastModifiedBy>User</cp:lastModifiedBy>
  <dcterms:modified xsi:type="dcterms:W3CDTF">2013-06-04T15:43:18Z</dcterms:modified>
  <cp:revision>89</cp:revision>
  <dc:subject/>
  <dc:title>PowerPoint 演示文稿</dc:title>
</cp:coreProperties>
</file>